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B258-52AC-4766-8D5D-D98DBE0233A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866-35AD-49AF-9CE5-20AC1F1E0A6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65A1-77F8-40B6-9309-5449B03C742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17D-1AE7-4F21-8354-83B0142E20B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C73-BBD5-485F-91C5-B75E1AE4979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E0-AC7B-43AF-9403-5D59F091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209-CB45-4DE9-A3D6-DFD09F41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589-3AAD-4518-92F9-3652E4F1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52F-A810-475B-80C1-36E1A6A7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0FF-2C16-4832-8717-D2F8F9E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A81-77CC-4A58-8A54-39D696C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AED-6F2E-46F6-8CBD-DD26BA0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AE72-82C7-485A-9ABC-BF2B840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0FC9-EF05-4131-955B-F987B8A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3CAF-8BE1-43DE-A66E-6627497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B4C-E713-402A-B0B9-9C54E28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8CB-26BD-4A2F-B541-546615C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BC24-9569-47A2-9023-B43DC48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52E3-61E1-4523-8CCB-CB07649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B3EB-C51E-4EE9-A58C-C807918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048-4F4A-4003-B895-43B23072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62C-535B-4601-9CB8-D1E101CD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4C9F-B077-495D-B1B4-76AC4FED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788A-EFD5-4417-A34E-E97183C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C097-6975-4350-9871-80408F8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31EA-4CFB-4C1B-912E-5D0B2FF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42AF-067B-4ED7-B66B-4E9FD44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3E0-ED2B-49B7-A7AB-C00B1EA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B2AF-02C9-40F3-B2B1-3EAA107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5525-6DF8-4331-867D-EE322144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68A1-F8E3-4A13-9200-17EBD36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C589-3756-47AC-91A9-DBC284B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04CE-09D1-4F53-BFAD-6118240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065F-915F-40B8-A257-27ABDB6E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C0EC-21B7-4B46-B692-5FDA809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8975-3A33-48D9-9D91-218D6FA5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13EC-3294-4490-B389-A021186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B8C7-9AD4-4911-AB1F-639FCDE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EF5-E40C-4552-8B33-8FD5F71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9454-9FCF-42CC-8B9A-A3BB673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4854-720F-40CD-AB52-E6D595F4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FBBA-3651-4C5D-B94E-EBD638E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C34A-DEFB-4A17-A08B-FE719FF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F520-35E2-430A-9CE1-DB5301C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6DCD-FDE8-4899-98E1-1DF6577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AAF6-A167-4F91-AB46-AB452C08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4D2A1-3F2F-48B5-B487-F23FA1A3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9A6E-4DC5-402E-86E4-69ADAF2F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0F2-9FDF-4DB4-9159-CCC5555B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4F5-4B3F-474E-87AC-69A376D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AD3-60F2-448C-80E3-331BF23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5B8-5A8A-40FD-8351-CDE7EE9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A04-9CAB-496F-A343-1E4ED14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88F9-0822-4E05-9BF7-1464DE2324DE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7FA-BD67-428F-83AC-0DA92A89A523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A2D-258C-444A-91DF-F7AFEE8E95DC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1C5-B313-48C1-9C29-69D2501B3CD6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cast.com/t/x7LJJzpVhXjz" TargetMode="External"/><Relationship Id="rId2" Type="http://schemas.openxmlformats.org/officeDocument/2006/relationships/hyperlink" Target="http://www.screencast.com/t/x7LJJzpVhXjz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reencast.com/t/lDuR7xJhKP60" TargetMode="External"/><Relationship Id="rId2" Type="http://schemas.openxmlformats.org/officeDocument/2006/relationships/hyperlink" Target="http://www.screencast.com/t/lDuR7xJhKP6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3565440"/>
            <a:ext cx="83883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 </a:t>
            </a:r>
            <a:br>
              <a:rPr sz="2800"/>
            </a:br>
            <a:r>
              <a:rPr b="1" lang="en-NZ" sz="3000" spc="-1" strike="noStrike">
                <a:solidFill>
                  <a:srgbClr val="04617b"/>
                </a:solidFill>
                <a:latin typeface="Calibri"/>
                <a:ea typeface="Calibri"/>
              </a:rPr>
              <a:t>Number Strategies  - </a:t>
            </a:r>
            <a:r>
              <a:rPr b="1" lang="en-NZ" sz="3000" spc="-1" strike="noStrike">
                <a:solidFill>
                  <a:srgbClr val="04617b"/>
                </a:solidFill>
                <a:latin typeface="Calibri"/>
              </a:rPr>
              <a:t>Use a range of counting, grouping strategies with whole numbers.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3068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Use the strategy of ‘counting on’ to solve  addition problem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Constantia"/>
              </a:rPr>
              <a:t>The Number Partn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c000"/>
                </a:solidFill>
                <a:uFillTx/>
                <a:latin typeface="Comic Sans MS"/>
              </a:rPr>
              <a:t>http://www.screencast.com/t/VJIj8dr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Have a Go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http://nzmaths.co.nz/digital-learning-objec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User name: </a:t>
            </a: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ictpdclust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Password: </a:t>
            </a: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Engagemen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NZ" sz="5400" spc="-1" strike="noStrike">
                <a:solidFill>
                  <a:srgbClr val="04617b"/>
                </a:solidFill>
                <a:latin typeface="Calibri"/>
              </a:rPr>
              <a:t>How can Digital Learning Objects be used in the classroom for reading?</a:t>
            </a:r>
            <a:br>
              <a:rPr sz="54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800"/>
            </a:br>
            <a:r>
              <a:rPr b="1" lang="en-NZ" sz="2700" spc="-1" strike="noStrike">
                <a:solidFill>
                  <a:srgbClr val="04617b"/>
                </a:solidFill>
                <a:latin typeface="Calibri"/>
              </a:rPr>
              <a:t>Listening, reading, and viewing – Structure</a:t>
            </a:r>
            <a:br>
              <a:rPr sz="2700"/>
            </a:br>
            <a:r>
              <a:rPr b="0" lang="en-NZ" sz="2500" spc="-1" strike="noStrike">
                <a:solidFill>
                  <a:srgbClr val="04617b"/>
                </a:solidFill>
                <a:latin typeface="Calibri"/>
              </a:rPr>
              <a:t>Understands that the order and organisation of words, sentences, and images contribute to text meaning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85264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Match sentences to pictur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Sequence a story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Dragons Jumbled Drea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nstantia"/>
              </a:rPr>
              <a:t>http://www.screencast.com/t/8qg5JX0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Language features - </a:t>
            </a:r>
            <a:r>
              <a:rPr b="0" lang="en-NZ" sz="2800" spc="-1" strike="noStrike">
                <a:solidFill>
                  <a:srgbClr val="04617b"/>
                </a:solidFill>
                <a:latin typeface="Calibri"/>
              </a:rPr>
              <a:t>Shows some knowledge of text conventions (capital letters)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292392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dentify upper case and lower case letter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dentify letters in a variety of font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Zoo Detectiv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http://www.screencast.com/t/NbYl7b7XkbU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500"/>
            </a:br>
            <a:r>
              <a:rPr b="1" lang="en-NZ" sz="2700" spc="-1" strike="noStrike">
                <a:solidFill>
                  <a:srgbClr val="04617b"/>
                </a:solidFill>
                <a:latin typeface="Calibri"/>
              </a:rPr>
              <a:t>Listening, reading, and viewing – Processes &amp; Strategies</a:t>
            </a:r>
            <a:br>
              <a:rPr sz="2500"/>
            </a:br>
            <a:r>
              <a:rPr b="0" lang="en-NZ" sz="2500" spc="-1" strike="noStrike">
                <a:solidFill>
                  <a:srgbClr val="04617b"/>
                </a:solidFill>
                <a:latin typeface="Calibri"/>
              </a:rPr>
              <a:t>Associates sounds with letter clusters as well as with individual letter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2565360"/>
            <a:ext cx="83628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Find words that have the blend 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sh, ch and th. 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989000"/>
            <a:ext cx="82296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Constantia"/>
              </a:rPr>
              <a:t>Letter Planet sh, ch, 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One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creencast.com/t/Z2eYPDHp9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What is Digital Learning Object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5627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Range of free digital learning resources for use in the classroo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Covers a variety of curriculum areas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Content provided from the Ministry of Education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clipartheaven.com/clipart/education_&amp;_schools/cartoons/question_mark.gif"/>
          <p:cNvPicPr/>
          <p:nvPr/>
        </p:nvPicPr>
        <p:blipFill>
          <a:blip r:embed="rId1"/>
          <a:stretch/>
        </p:blipFill>
        <p:spPr>
          <a:xfrm>
            <a:off x="5796000" y="2421000"/>
            <a:ext cx="2378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Have A Go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http://www.digistore.tki.org.nz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User name: ictpdclust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Password: Engagemen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How to manage digital learning objects in the classroom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56000" y="1916280"/>
            <a:ext cx="63468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ndependent activity on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task-board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Peer teaching and lear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Early finisher activity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Student voice can be recorded for students to reflect on their lear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Educator\My Documents\My Pictures\Picture\Picture 306.jpg"/>
          <p:cNvPicPr/>
          <p:nvPr/>
        </p:nvPicPr>
        <p:blipFill>
          <a:blip r:embed="rId1"/>
          <a:srcRect l="3705" t="12914" r="10446" b="7797"/>
          <a:stretch/>
        </p:blipFill>
        <p:spPr>
          <a:xfrm>
            <a:off x="577800" y="3429000"/>
            <a:ext cx="1800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Wall Wish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nstantia"/>
              </a:rPr>
              <a:t>Post your reflections on the wal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http://www.wallwisher.com/wall/globoju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Benefits of using learning objects in the classroom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512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New Zealand learning resourc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Hands on fun interactive learning activitie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Caters for a range of learning level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Educator\My Documents\My Pictures\Picture\Picture 288.jpg"/>
          <p:cNvPicPr/>
          <p:nvPr/>
        </p:nvPicPr>
        <p:blipFill>
          <a:blip r:embed="rId1"/>
          <a:srcRect l="21553" t="22111" r="8623" b="8011"/>
          <a:stretch/>
        </p:blipFill>
        <p:spPr>
          <a:xfrm>
            <a:off x="5940360" y="2492280"/>
            <a:ext cx="26402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Why would you use digital learning objects in the classroom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64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Opportunity for students to engage with text and numbers using e-Learn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Easily integrated into the classroom program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00" spc="-1" strike="noStrike">
                <a:solidFill>
                  <a:srgbClr val="000000"/>
                </a:solidFill>
                <a:latin typeface="Constantia"/>
              </a:rPr>
              <a:t>Opportunity for students to work independentl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Large variety of free resources avail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How does digital learning objects link to the NZ curriculum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Key Competenc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Thinking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 - Students use critical and problem solving strategies to interpret information. Allows students to take risks with their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Using language symbols and text 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Students use words, numbers and images in a range of learning contexts using I.C.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Curriculum Learning Are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ths – all str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nglish  - Listening, reading, and vie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  <a:ea typeface="Calibri"/>
              </a:rPr>
              <a:t>Number Knowledge  - </a:t>
            </a: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know the forward and backward counting sequences of whole numbers to 100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Sequence whole numbers from 1 - 1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nnect number words, numerals and ten frame dots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unt forwards and backwards to 1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Number Train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One New Entrant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www.screencast.com/t/x7LJJzpVhXjz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  <a:ea typeface="Calibri"/>
              </a:rPr>
              <a:t>Number Knowledge  - </a:t>
            </a: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know the forward and backward counting sequences of whole numbers to 100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4920" y="2349000"/>
            <a:ext cx="84358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9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Sequence whole numbers from 1 - 10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nnect number words, numerals and place value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unt forwards and backwards to 10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Number Tra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www.screencast.com/t/lDuR7xJhKP60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2:40:35Z</dcterms:created>
  <dc:creator>Ministry of Education</dc:creator>
  <dc:description/>
  <dc:language>en-US</dc:language>
  <cp:lastModifiedBy>Director</cp:lastModifiedBy>
  <dcterms:modified xsi:type="dcterms:W3CDTF">2012-03-07T20:49:27Z</dcterms:modified>
  <cp:revision>84</cp:revision>
  <dc:subject/>
  <dc:title>Digital Reading and Maths</dc:title>
</cp:coreProperties>
</file>